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36F-4BA0-41D6-8E6A-32E86A03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F8F-6C83-4430-AD5A-176776D4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1BE-DF6A-4EED-8746-EA498795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CBF-578B-4CDE-80FC-87AA9C09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23DE-970D-4E39-A6B7-3DDCFE75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3ECA-72D5-4E12-A631-D12F0621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464C-B9E9-4967-916C-D714A5EC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3892-E09F-42B5-9988-094302A5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2E31-1051-4977-A352-A692D293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F0E0-3CC2-49C9-B0E3-7CD47601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2FB5-4782-4DB7-B757-3850FCC7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8A0-B1FF-4B87-AAB6-D052DCAA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E0AC-BD12-4B21-BA75-6A8A2CB5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520F-4A27-4F49-B3D1-04A118D7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F40A-8C32-4C55-9DDF-32294920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D930-4506-4D6C-AAD1-C654ED66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42BE-BCB7-4184-88DB-9429FC72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A51-8BAD-4BA3-8E6F-304BFC7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EC7-E296-489A-A11A-04DED5D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D57-ED92-44AB-BEEE-75EA21A2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FB0-E652-4D85-850D-7DD40583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38C-D995-4819-B77F-4FB4FC6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9C4-6108-4158-9BF5-D7A9B0CD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08D-FA4F-4357-8D32-64B4D26E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4574-B261-46DB-8078-16E83BFC87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43CB-C6AB-4AB5-A3BC-B6BDD5B878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A Low Power SRAM Desig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roline Andrew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obert Hun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ousef Shakhshe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cember 6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, 2007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828800" y="1676520"/>
          <a:ext cx="6400800" cy="4020840"/>
        </p:xfrm>
        <a:graphic>
          <a:graphicData uri="http://schemas.openxmlformats.org/drawingml/2006/table">
            <a:tbl>
              <a:tblPr/>
              <a:tblGrid>
                <a:gridCol w="2203560"/>
                <a:gridCol w="419724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388006  W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 ns *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 Cell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9.04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Effective: 182.03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099200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.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e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.56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2.8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e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4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imul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6238800" cy="3915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65040" y="31608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ad and wri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9640" y="4038480"/>
            <a:ext cx="268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ense amp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fter 0.5 V drop in 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put latch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gister on rising 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f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imulations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55120" y="2057400"/>
            <a:ext cx="727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 simulated at all voltages, temperatures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cess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(4.5, 5, 5.5) T(0C, 27C, 50C) P(TT, FF, SS, SF, 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one for 1bit Read an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2080" y="42418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 also simulated under 32-bit Read an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84120" y="2133720"/>
            <a:ext cx="7383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ed successfully designed and simulated u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ariety of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ower consumption is minimized with enable signal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perip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rea is minimized with overlapping bitcells and s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mp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urther development could result in more power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2440" y="2286000"/>
            <a:ext cx="733896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velop a functioning SRAM memory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mplement design features to reduce overal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sign a robust memory device that operates ov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arge range of temperatures, voltages, and process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Our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9040" y="1595520"/>
            <a:ext cx="523728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MB memory array divided into 16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 contains 256 x 256 bit cell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2666880"/>
            <a:ext cx="4957560" cy="380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2819520"/>
            <a:ext cx="335304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6-input multiplexer used to select correc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819520"/>
            <a:ext cx="76212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705360" y="1905120"/>
            <a:ext cx="22860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44960" y="151920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ory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3200400"/>
            <a:ext cx="533160" cy="6858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09880" y="3809880"/>
            <a:ext cx="914400" cy="609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8280" y="419112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ock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5638680"/>
            <a:ext cx="838080" cy="6098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657600" y="6019560"/>
            <a:ext cx="236232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15720" y="58672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put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sign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4560" y="1523880"/>
            <a:ext cx="286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yout for one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809880"/>
            <a:ext cx="38862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ory cells acce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olumn and row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rs built with hierarchical desig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p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53341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9880" y="1555920"/>
            <a:ext cx="4857840" cy="4341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63680" y="2241720"/>
            <a:ext cx="26953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MOS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ized larger than 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MOS W=1.5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MOS W=4.05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L NMOS W=1.8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pecia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52388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 signals are distributed throughout the memory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8560" y="2814480"/>
            <a:ext cx="5000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 for a considerable reduction in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one memory block is active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e amplifiers enabled only during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52200" y="5405400"/>
            <a:ext cx="71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read or write are not asserted, entire periphery is 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eatures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2362320"/>
          <a:ext cx="4419360" cy="2538360"/>
        </p:xfrm>
        <a:graphic>
          <a:graphicData uri="http://schemas.openxmlformats.org/drawingml/2006/table">
            <a:tbl>
              <a:tblPr/>
              <a:tblGrid>
                <a:gridCol w="1084320"/>
                <a:gridCol w="917280"/>
                <a:gridCol w="916200"/>
                <a:gridCol w="750960"/>
                <a:gridCol w="750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 P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f P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ty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ty 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se A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74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4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8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6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906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54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062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78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x G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2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p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M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0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6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-M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9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082520" y="1595520"/>
            <a:ext cx="77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consumption of active components versus inactiv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65920" y="2664000"/>
            <a:ext cx="317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active power is much less t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ve power for all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ipher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4200" y="5376960"/>
            <a:ext cx="73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: Inactive devices are consuming much lower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power, preventing wasteful consumption when not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Layout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19720" y="1143000"/>
            <a:ext cx="4405320" cy="336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19720" y="990720"/>
            <a:ext cx="4495680" cy="1676160"/>
          </a:xfrm>
          <a:prstGeom prst="ellipse">
            <a:avLst/>
          </a:prstGeom>
          <a:noFill/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752480"/>
            <a:ext cx="838440" cy="15264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 6T bi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362320"/>
            <a:ext cx="411480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mory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t cells are tiled and overlap on all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a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239.04 μ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ffective: 182.03 μ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e amps snap directly onto bit cell array without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666880"/>
            <a:ext cx="4419720" cy="19051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629400" y="46479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4680" y="53290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 Sense 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Layout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176800" cy="433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4343400"/>
            <a:ext cx="2895480" cy="9907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334120"/>
            <a:ext cx="2895840" cy="1295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23880" y="1981080"/>
            <a:ext cx="1905120" cy="9907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828800"/>
            <a:ext cx="1066680" cy="28195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038120" y="4114800"/>
            <a:ext cx="205740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81120" y="5715000"/>
            <a:ext cx="121932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6520" y="54817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 to 1 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4560" y="38815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mission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21320" y="17478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lin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17:05Z</dcterms:created>
  <dc:creator>Robert Hunter</dc:creator>
  <dc:description/>
  <dc:language>en-US</dc:language>
  <cp:lastModifiedBy>ITC Labs and Classrooms</cp:lastModifiedBy>
  <dcterms:modified xsi:type="dcterms:W3CDTF">2007-12-05T20:10:59Z</dcterms:modified>
  <cp:revision>56</cp:revision>
  <dc:subject/>
  <dc:title>A Low Power SRAM Design</dc:title>
</cp:coreProperties>
</file>